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814-E2E1-44E7-B7AF-9FFCBE34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20D-1B6E-4186-ADB5-2C008B1B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C32-7390-41DA-9C75-F88421CE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DAF-2585-4232-8486-766E3174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817-93A2-444A-8F18-E725DB1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20E-9830-4C27-829A-3754A507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F6C-6EA0-49D8-80D6-B9AEE51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E59-8DA9-441C-A3B1-7C70A74D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65E-3B4D-401C-8DBA-362DF9B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120-62B1-4B5E-99A6-2283490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13F-47B4-4C8E-A238-E2A314A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2BD-450C-459D-B2E2-C27399A9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69A-DF87-497A-B17E-3B387CF556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85DC-5561-49BC-B21A-D4B1EEAD6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gler for ale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926-5579-4BB5-8CC5-9FD2F26C25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BD127-5DED-475D-8CF1-0268EE7BB4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Generelt alerteringsprinsipp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ensikten med å alertere er å vekke motparten slik at de er oppmerksomme på at det avgitte budet inneholder informasjon utover det en kan vente av en ekte melding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viktig å merke seg at det i forskjellige miljøer kan være ulike forventninger til betydningen av melding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derfor vist seg utilfredstillende å basere alertering på "ikke vanlig/vanlig".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Reglene fra nå av vil i hovedsak i stedet bli basert på "konvensjonell/ekt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640-8084-4BCE-AC3B-0C0F028750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73F7C-BB32-4A9A-B853-38BE53383A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Hovedregelen er at alle konvensjonelle meldinger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makkeravtalen inneholder vesentlige tilleggsbetydningre ut over hva som følger av den er ekte,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betydningen er betydelig påvirket av andre avtaler, slik at motstanderne ikke uten videre kan trekke de rette slutninger av meldingsforløp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det kan være rimelig tvil om kravnivå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Åpning sterk 2 kl og Svar på 1-2 NT Stayman 2 kl/3kl skal etter disse regler alerteres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Pass, Dobler og Redobler skal alerteres, når de ikke er ek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TL må være svært varsom med å gi erstatning for manglende alert av meldinger som beskrives på forsiden av systemkorte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B4A-39DF-41BE-B11A-3D01D26A9B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AD7E3-F145-4BE1-B0EA-A8F89FF280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ikke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kte meldinger uten betydelig tilleggsinformasjon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Meldinger over 3 N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Times New Roman"/>
              </a:rPr>
              <a:t>Unntak: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konvensjonelle åpninger / innmeldinger i første melderund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Det alerteres "helt frem" når det spilles med skjermer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vordan  skal det alerteres?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Banke i bord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Vise alertkortet (evt. legge det over meldekorten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den som alerterer som har ansvaret for at alerten oppfat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D31-2581-4B1F-8BFE-A0FE16D170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F3B57-36AF-4400-9383-CA0D92EA38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Listen nedenfor er illustrerende eksempler til alertreglene, ikke en liste som tilstreber fullstendighet. Følgende skal alerteres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Åpninger på 1 i farge som kan være på færre enn 3 kort i minor eller 4 kort i major, for eksempel 1 kløver Vienna,  Presisjon eller Beredskap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 ruter i Presisjon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 som konvensjonelt svar på 1NT åp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Flerfargemeldinger som Marmic og lignend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åpning som ikke er ekte, eller som viser tilleggsinfo om andre farger enn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konvensjonelt kan være på færre enn 4 kort</a:t>
            </a:r>
            <a:br>
              <a:rPr sz="2000"/>
            </a:b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(NB mulig 3 kort i minor alerteres ikke, men skal anmerkes på forsiden av systemkortet)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ikke er krav etter motpartens innmelding.1 over 1, 2 over 1 og hoppmeldinger i ny farge som ikke er krav i et uforstyrret meldingsforløp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04E-DE68-4746-B148-EBAE562E985C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70C55-56A0-4CA9-8191-F7DB932439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NT åpning som kan være svakere enn en gjennomsnittshånd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Omvendte minorhøyning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Hopp i makkers innmeldte farge som er sper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Alle meldinger etter motstandernes opplysende dobling som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Grandåpninger som ikke viser en balansert eller semibalansert hånd eller som garanterer lengde i minst en bestemt farg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lle åpninger som viser eller kan vise minst 4 kort i mer enn en farge. Eks :2kl i Presisj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lert for sikkerhets skyl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En melding som en ikke er sikker på om er ekte eller konvensjonell bør alerteres for sikkerhets skyl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enne usikkerheten er UI  for den som har avgitt melding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60A-94CF-4F5F-BF0F-F15AE978C5B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31A37-43E8-4206-9C20-57B75CA893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lert og straffebestemmels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anglende alert og alert i utide er feil forklaring overfor motparten og UI for makk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rsom motparten blir skadelidende på grunn av feil forklaring eller bruk av UI fastsettes en justert sco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 er ikke prosedyrestraff for manglende alert eller alert i utid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3D0-7928-48E4-ACBB-6DABA9272D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A8F04-C26B-41CA-A8F0-224F88A1DD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3:08:40Z</dcterms:created>
  <dc:creator>Per Nordland</dc:creator>
  <dc:description/>
  <dc:language>en-US</dc:language>
  <cp:lastModifiedBy>Per Nordland</cp:lastModifiedBy>
  <dcterms:modified xsi:type="dcterms:W3CDTF">2002-06-01T20:36:20Z</dcterms:modified>
  <cp:revision>9</cp:revision>
  <dc:subject/>
  <dc:title>Regler for alert</dc:title>
</cp:coreProperties>
</file>